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DC7-17E4-4D8B-961A-4CFA5BDCAB25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A2C-2122-4E8D-B3ED-D244F32B483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078-0ACC-4723-B123-BAF3CCC5434D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6760" y="299880"/>
            <a:ext cx="61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Agency Requirements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NSF data management plans; Version 1.0, Reviewed ????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sf.gov/pubs/policydocs/pappguide/nsf11001/aag_6.jsp#VID4" TargetMode="External"/><Relationship Id="rId2" Type="http://schemas.openxmlformats.org/officeDocument/2006/relationships/hyperlink" Target="http://www.nsf.gov/pubs/policydocs/pappguide/nsf11001/gpg_2.jsp#dmp" TargetMode="External"/><Relationship Id="rId3" Type="http://schemas.openxmlformats.org/officeDocument/2006/relationships/hyperlink" Target="http://www.nsf.gov/bfa/dias/policy/dmp.jsp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71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SF Data Management Pla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ll proposals to NSF must be accompanied by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lans must be no longer than 2 pag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lans should be responsive to NSF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’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 policy on the dissemination and sharing of research results (see NSF Award and Administration Guide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05600" indent="-2714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Fastlane will not accept proposals without this supplementary docume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dividual directorates may have directorate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dividual solicitations may have program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53080" indent="-253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e NSF definition of data is very broad - you may be surprised at what is included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18112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NSF policy on dissemination and sharing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vestigators must promptly publish all significant finding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vestigators are expected to share primary data, samples, etc. created or gath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Privacy or sensitive information concerns need to be taken into accoun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Exceptions to open sharing may be granted on request to your program office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1360" indent="-2613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haring of software or other inventions created as a result of your research is encouraged, though NSF does not claim intellectual property righ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27920" indent="-280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is does not reduce your responsibility to make your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results, data, and collections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available to other researcher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18112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General guidance on plan content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scription of materials produced as a part of the projec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etadata and data standards and formats to be used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ccess and sharing policies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icies for re-use, re-distribution, and creation of derived produc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lan for preserving materials and access to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SF Data Polic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ward and Administration Guide.</a:t>
            </a:r>
            <a:r>
              <a:rPr b="0" lang="ja-JP" sz="2800" spc="-1" strike="noStrike">
                <a:solidFill>
                  <a:srgbClr val="00000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nsf.gov/pubs/policydocs/pappguide/nsf11001/aag_6.jsp#VID4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Data Management Plan Requiremen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Grant Proposal Guide, Chapter II.C.2.j.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ww.nsf.gov/pubs/policydocs/pappguide/nsf11001/gpg_2.jsp#dmp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SF Directorates with specific guida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SF. 2011. 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Dissemination and Sharing of Research Results.</a:t>
            </a:r>
            <a:r>
              <a:rPr b="0" lang="ja-JP" sz="2800" spc="-1" strike="noStrike">
                <a:solidFill>
                  <a:srgbClr val="606060"/>
                </a:solidFill>
                <a:latin typeface="Helvetica Neue"/>
              </a:rPr>
              <a:t>”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nsf.gov/bfa/dias/policy/dmp.jsp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y do a data management plan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lements of a data management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timating effort and resources requi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esources available to help with developing your pla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uth Duerr</cp:lastModifiedBy>
  <dcterms:modified xsi:type="dcterms:W3CDTF">2012-03-23T23:38:40Z</dcterms:modified>
  <cp:revision>37</cp:revision>
  <dc:subject/>
  <dc:title>ESIP Federation 101</dc:title>
</cp:coreProperties>
</file>